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107C-18AA-4226-A55E-96CC6C531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0A61-FB76-4A9E-9C81-38DF738B22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6F4-F550-480B-99DC-C9C13A1C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D55-9DE0-4C61-8D2D-F5B2DCF9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261CE-D6A5-4734-AF00-E26830BD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0283E-1280-4AE2-BC04-C33D6D9C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BBF0B-573C-4194-A662-BBB1A8D0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F0876-975D-4ED9-B8E1-CD770EFE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A78F6-6C9C-4C58-82CA-679FB71A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9C78F-0599-47D1-B1AD-BAA65D1F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D5756-41D0-4A72-9B5F-A76B560E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B126B-66C3-4956-94EF-9653E8FD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59856-88E9-4B85-BCB8-1A2610E6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6B69BC-3639-4060-A00C-DFCA8D13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7ED-EE0A-4BC2-AC0E-47D494E3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5444A7-B154-4405-A264-69200FD7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644016-E88B-4DA2-9B66-01562F21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115880-7250-455C-98E4-87D714B3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BC9917-9401-435C-B339-0BE1A792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B45F19-E390-4830-88D4-8CD41FAB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AC2E17-5701-4B2C-92C9-8DA9615A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7BE0F5-E05D-4C9B-B237-C6950A41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09B6FF-7563-495E-90E2-91BE5F1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BAD7DA-590D-4760-AD71-012BF24B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7B96FE-01E2-4820-BD42-F6781F26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3D1-ED7E-4D6F-B05C-058E5512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8525FD-49B2-4CF4-9D35-CD78C822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C1856-5E6F-4192-A39D-3B996849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1F47B-A861-4299-AA52-CAF7A64C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1C724-5F59-461F-8743-FFFD0C75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47F31-132D-4344-95CE-01C2F51A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5B233-520B-4C25-8403-98F030A4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03E95-605A-41BF-AC78-361C948F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0646B-95C4-4F65-B730-A5D5601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99155-B695-45AC-9F66-FC148A8D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568DA-1E9D-4A00-960A-7232B135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A580-A18B-4F2D-8B87-DDB1EB3E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B2655-DE2A-436B-B017-9CC7FA5D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0FAF8-01EE-48B5-AF4B-2610C3BC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F61CB-C24C-4833-8957-B639BE1C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D9898-4405-4700-99DA-49E32906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48B7F-C0FB-4A5B-B457-642F54CB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35C34-A563-49E3-8DD5-FB3AFAA3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0C3A4-9C22-477C-BD5A-142E5B24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F3F79-BBCD-4C56-920F-79C25E16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E66EE-169A-42AC-8FA8-256C09AC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CA40A-6872-4471-B50C-11DC060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1746-0A5B-4D70-934C-955F93B9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2B1DA-67D2-4BC0-AA28-C3C12FF5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92700-4BA2-4306-B972-1310648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98B06-8F8F-4E3A-9C3B-3E5C7CDC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4D8F7-3AA1-445A-B905-05B54145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49E68-33E8-4F45-B3C6-026FF7B8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0762A-9EF8-4FC8-A183-94F0F011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0730D-1133-4C1E-B39E-F8C42197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2E603-6AFE-40DF-8856-63D839A6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44E59-B64D-4528-90F6-503932C9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EAAC9-5F16-4A2A-958C-9B2A44F0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71DB-D9DD-43DC-BA49-359755E9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4EBC3-284A-4745-849B-7891B3F1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7A2BE-0FCC-4099-88B6-09425CFE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F5A08-823B-46A1-8B4B-7DB07420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00E9E-74A3-4767-BE6E-F1A2248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EB890-3341-4104-8A9F-5B005483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D90D7-B307-4323-8760-32B41567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52627-E35C-46F2-B48A-DD0A66CC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52DB2-2EDB-4B70-9139-08FDD3B4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E36EF-CC11-4567-9D52-2CAA7C39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35455-FB80-4FE3-974B-D116E7F4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5281-82D9-453B-957C-CA28D1B1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CBC42-7166-4ACE-B0CB-5CFF9BB6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EC94E-6735-4430-998F-41BC4AD3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F78D6-0F48-417E-8F4F-9E8119D3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BFE61-455C-4CF3-BE51-46BF8FC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5B312-2FB3-4E40-99C8-9505D1DB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3686F-63F8-45A5-9A09-124D424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90791-79CD-4017-AE30-026B2FD5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A0468-F46B-44D1-B788-0D3B6040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265F3-1D95-46F3-9DF8-94C31088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DF4D-D4D2-45C1-A33E-C85A22A4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A5D8-4F48-4268-B546-CC3651DC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15DB-3CD6-4383-AFDF-1D4A5D10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101-363B-41C3-BE26-C73F9584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502D-8D48-4BB9-8A69-775A0CC6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E958-ABFF-47CB-96C8-61D81DE9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A1E5-68BD-47FF-BB12-A5B18D12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069A-1AF3-45DB-B0F8-C06AC9CF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511E-9980-4DB9-A286-D1215F37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DA20-71C1-4D41-9593-DD0BD2CB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BF5C5-C0F5-4989-84B0-823334BF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69CA-1A31-4AF4-AC2B-39818D76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193F-3987-4341-9133-9EB9C688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D247F-2DED-4EFF-85C0-C0618CE6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36E-C634-49E5-A892-C78DAEF2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0BB63-CDF3-46B5-AF46-B83AA289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D7258-CACA-46EF-AD2B-EFF42876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E2C9-46BA-4863-AAB0-5A1EA5B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C08B-DE61-4030-A320-5012BBDB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F332-910E-4F67-A041-B10E04DF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22DA-6D8A-4BDC-95AD-E4660543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C15C-22E9-4FA2-B7F8-70AED6B0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9BD5-4D17-4819-BD5D-A8EDC580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4B84-839E-4CD5-9EBE-F9923EBF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FFF8-B01A-47B2-9808-D20BA399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97C-A1BC-4D2F-8CC8-4AE94FD7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71388-5B3D-43C3-8800-150B0FC7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F298-928C-4199-A03E-F794892F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EA3D-C299-42AC-8643-0B93E893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97381-5367-4B25-AC00-21690A79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79587-2F06-4155-8DBC-3F7B99DB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62EB4-C2D3-4057-8CA5-4469A7ED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57462-D18D-4536-BADC-F437ACE0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BAF48-7E8B-4F44-BA36-52C14223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58961-D0CE-43C7-9FD0-0928D4F3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B61A0-1478-44D7-A1E7-73657FB3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E9C-EDE3-4F16-8B22-51CC26C7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2D5BA-76C5-4DF6-B3C7-58E5A0B1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37869-A75A-4C55-95E6-68D913DF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0E9FE-AA40-40B8-93D5-B06E5740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F07EE-9822-4895-BA7A-3FEAA7BA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3238F-7C87-4C4C-99C1-98F92775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66EDC-DBBD-4994-8D50-EC011B51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BC027-A4E0-4805-A584-0C40216D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0CA41-904B-4B7F-AC1A-3DF879B4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15A52-EFC5-4A84-BBF8-91E9A57F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0DD86-FA3F-4B67-B94B-74DA0B28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C24-B637-422E-A91E-5A785D8D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0353F-7FDB-47EB-8706-AF51D455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EA245-8952-4B89-9C34-B1FC4164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0CCA-FB3A-4F32-A228-2925981D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C344C-E220-4606-9DB1-AB87F24F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1527D-0AF8-4740-B054-39C32879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1A46C-5FBD-45DC-ADDB-9F50EDBB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6D692-CF71-49DC-96D5-5C5644AA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2FB20-DCA6-4A0E-B7B8-4D119D63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CF1CD-71DC-40B1-B4AC-092DB72F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0F14A-808D-4988-A29E-974427E6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387-841D-49F9-87A5-394FEA2D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6F765-3FE5-4A6A-8D4F-818809FA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AF651-9E96-4E12-8EA7-DFFDACFC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32C37-F6AE-464C-8EAE-D50ECCC5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86624-8DC6-445A-BC0B-8CA81B99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101B8-26F3-4923-A8A5-C106FD7D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A0007-7DFB-4F8F-AA80-4F159180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E69D2-68E8-46B4-B572-F67C30B5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E4EF2-80D0-47C0-A5A1-E13635F7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44FF7-546F-467A-AD9B-C6BFB87F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96A44-FFD4-408E-8158-E199761D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B04-7AEA-4360-9E48-F4BE4B9A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0D51A-6F97-4881-9E3F-199203E6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9523A-A07A-45E6-B8F5-CDAB6CD9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B0876-B619-4788-914B-E5CB5482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AD3A4-F81E-4925-93C5-F0450A1C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95672-8D5B-4D47-9009-BAFB1DDC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CC90A-4FA7-496D-A663-4D1E9E03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23077-5577-4817-A2DC-1B221AE7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C3088-2192-4A10-A2B8-57CFB0E6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FF3FE-32B7-4D89-BA50-DF10611B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2E613-B293-4206-B158-5CDCF28A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3FA-AFA7-47B8-BF8F-6CC3C230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D3CBE-5291-43D2-BE0D-25AD16E4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51188-EB71-4ADA-B471-D65B0774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A937D-D756-4E46-B5CD-D3BC8385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620F6-3C6F-4196-B016-F8835854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8C5BE-AABB-4480-80D1-46670965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C648A-D1E6-40BB-90C3-19CC9C72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5429C-6F5B-49EE-B1F2-83F5D542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64212-E37F-4C50-8B0B-AE1DAF58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6ADAD-3968-4F97-9BB5-7E7750F6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2AF55-DB01-4116-954A-B04964F8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AB7A-104A-414B-8282-F3755ACC4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0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0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0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7D72-7C25-4EEA-90C4-46111A10E5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6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3AFC-300C-4699-AE0A-4D56BCF0A0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2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2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3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2E8D-3C9F-48C1-87AA-6AEA2011687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7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7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8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5590-0510-4302-8846-F094992DA52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980-A05D-4E20-BDDB-FE8ADDD206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A1CC-BFBF-422B-975E-6882A654B17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4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5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5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6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6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7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7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7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8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8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8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9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9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9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9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0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0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0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1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1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1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2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2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2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3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3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3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4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4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1C1F-1A5D-4B97-8C59-58F61746DF9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5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9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21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ABA6-AA4F-445D-8F3C-A9AB7E66DA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9BBF-8F4F-48F4-B673-360977A27B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9A52-0F56-4965-AD9B-B433B50199F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5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D263-F6B1-446A-A7AE-9B11B2E0B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4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7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7D11-895E-4546-B669-22E2AE902F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62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62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63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3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3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3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3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4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4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4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5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5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5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6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6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6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7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7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7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7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8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8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8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9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9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9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9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0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0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0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1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1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1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2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2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2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2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3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3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73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73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74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9322-960E-4117-9CDF-EC9BDEEC237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onelyplanet.com/favourites/savePoi?id=375359&amp;fromUrl=http%3A%2F%2Fwww.lonelyplanet.com%2Fspain%2Fbarcelona%2Fshopping%2Fmall%2Fl-illa-diagona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90720" y="3809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Times New Roman"/>
              </a:rPr>
              <a:t>Mi Vacacion en Espana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67652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r: Miguel McG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8" name="Picture 5" descr="spain"/>
          <p:cNvPicPr/>
          <p:nvPr/>
        </p:nvPicPr>
        <p:blipFill>
          <a:blip r:embed="rId1"/>
          <a:stretch/>
        </p:blipFill>
        <p:spPr>
          <a:xfrm>
            <a:off x="2666880" y="4572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 Uno:Mi Hot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1" name="Text Box 8"/>
          <p:cNvSpPr/>
          <p:nvPr/>
        </p:nvSpPr>
        <p:spPr>
          <a:xfrm>
            <a:off x="4191120" y="1447920"/>
            <a:ext cx="495288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Querido Eli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66"/>
                </a:solidFill>
                <a:latin typeface="Times New Roman"/>
              </a:rPr>
              <a:t>El tiempo hoy fue genial! Fue muy sol y caliente.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Yo 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visité el Hotel Villa Magna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Es muy elegente, grande, y fantastico! </a:t>
            </a:r>
            <a:r>
              <a:rPr b="0" lang="es-ES" sz="2000" spc="-1" strike="noStrike">
                <a:solidFill>
                  <a:srgbClr val="ff0066"/>
                </a:solidFill>
                <a:latin typeface="Times New Roman"/>
              </a:rPr>
              <a:t>Me divertí mucho en este hotel! El hotel esta en Madrid, España. El hotel teng</a:t>
            </a:r>
            <a:r>
              <a:rPr b="0" lang="es-E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ó un </a:t>
            </a:r>
            <a:r>
              <a:rPr b="0" lang="es-ES" sz="2000" spc="-1" strike="noStrike">
                <a:solidFill>
                  <a:srgbClr val="ff0066"/>
                </a:solidFill>
                <a:latin typeface="Times New Roman"/>
              </a:rPr>
              <a:t>spa y un jardín. </a:t>
            </a:r>
            <a:r>
              <a:rPr b="0" lang="es-ES" sz="1800" spc="-1" strike="noStrike">
                <a:solidFill>
                  <a:srgbClr val="ff0066"/>
                </a:solidFill>
                <a:latin typeface="Times New Roman"/>
              </a:rPr>
              <a:t>Para mi viaje, me trajo mi traje de baño y algunas otra ropa. Me compré una camisa del hotel, son muy eleg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Times New Roman"/>
              </a:rPr>
              <a:t>Hasta pront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Times New Roman"/>
              </a:rPr>
              <a:t>Miguel McGof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2" name="Picture 10" descr="hotel-villa-magna-madrid"/>
          <p:cNvPicPr/>
          <p:nvPr/>
        </p:nvPicPr>
        <p:blipFill>
          <a:blip r:embed="rId2"/>
          <a:stretch/>
        </p:blipFill>
        <p:spPr>
          <a:xfrm>
            <a:off x="152280" y="1905120"/>
            <a:ext cx="3810240" cy="4195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a Dos: Platja de Migjor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0" y="16765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Text Box 6"/>
          <p:cNvSpPr/>
          <p:nvPr/>
        </p:nvSpPr>
        <p:spPr>
          <a:xfrm>
            <a:off x="457200" y="1905120"/>
            <a:ext cx="380988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ido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Jack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tiempo hoy fue fantástico, así que decidí ir a la playa solo. Me trajo una toalla, traje de baño y una toalla para la playa.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Yo lo pasamos muy bien visitando la Platja de Migjorn. Se trata de una playa. Tuve un nadar muy bien, y también bucear. Fue un gran día para la playa. También jugué voleibol de playa. Tengo un buen bronceado, pero no estaba quem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asta Lueg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iguel McGof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6" name="Picture 8" descr="formi_1631"/>
          <p:cNvPicPr/>
          <p:nvPr/>
        </p:nvPicPr>
        <p:blipFill>
          <a:blip r:embed="rId1"/>
          <a:stretch/>
        </p:blipFill>
        <p:spPr>
          <a:xfrm>
            <a:off x="4800600" y="26668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a Tres: 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L’Illa Diagonal</a:t>
            </a:r>
            <a:br>
              <a:rPr sz="4000"/>
            </a:br>
            <a:r>
              <a:rPr b="1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200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ida Mad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tiempo de hoy fue frío y lluvioso, y nublado, así que decidí ir al centro comercial con mi amigo eliomar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ramos ropa, y tambien compram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ida. nos trajo un montón de dinero, pero no fueron capaces de hacer todo lo que queríamos. No fue capaz de comprar regalos para 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asta Lueg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guel McG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5" descr="l_illa_diagonal"/>
          <p:cNvPicPr/>
          <p:nvPr/>
        </p:nvPicPr>
        <p:blipFill>
          <a:blip r:embed="rId2"/>
          <a:stretch/>
        </p:blipFill>
        <p:spPr>
          <a:xfrm>
            <a:off x="3809880" y="2133720"/>
            <a:ext cx="5181840" cy="3927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a Quatro: Tupperware</a:t>
            </a: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200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uerido Filep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tiempo de hoy fue Allright. Que estaba un poco fría, y no muy soleados. Fui a un club de lujo en madrid llamado tupperware. Este lugar fue muy divertido. Quiero bailar, lugar de reunión con mi amigo eliomar, y escuchar música. El club tenía una comida excelente, y muchas chicas, así que lo pasamos muy bie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asta Luego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iguel McGof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2" name="Picture 5" descr="http://www.wayfaring.info/wp-content/uploads/2007/06/rock-club.jpg"/>
          <p:cNvPicPr/>
          <p:nvPr/>
        </p:nvPicPr>
        <p:blipFill>
          <a:blip r:embed="rId1"/>
          <a:stretch/>
        </p:blipFill>
        <p:spPr>
          <a:xfrm>
            <a:off x="3657600" y="1600200"/>
            <a:ext cx="523872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ia Cinco: Alhambra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76320" y="20570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uerida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a señora Rousseau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 tiempo de hoy no era muy grande, así que visitó la Alhambra! Alhambra es un sitio antiguo en el sur de España, y la gente dan los viajes y te dirá algunos datos interesantes acerca de este lugar. Decidí ir solo hoy, y sólo tuve que llevar un buen abrigo y algo de dinero para entrar en Alhambra. Definitivamente valió la pena la unidad hacia abajo para ver este lugar, que era increíble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Hasta pronto,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iguel McGof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5" name="Picture 2" descr="https://encrypted-tbn0.google.com/images?q=tbn:ANd9GcR9CK4BTwKI7GyHpn8TTt95lDO2m16qLjb10v-LsxZqRMWSCd-B"/>
          <p:cNvPicPr/>
          <p:nvPr/>
        </p:nvPicPr>
        <p:blipFill>
          <a:blip r:embed="rId2"/>
          <a:stretch/>
        </p:blipFill>
        <p:spPr>
          <a:xfrm>
            <a:off x="5410080" y="2057400"/>
            <a:ext cx="3448080" cy="4602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9:10Z</dcterms:created>
  <dc:creator>mcgoffmic</dc:creator>
  <dc:description/>
  <dc:language>en-US</dc:language>
  <cp:lastModifiedBy>McGoff, Megan</cp:lastModifiedBy>
  <dcterms:modified xsi:type="dcterms:W3CDTF">2011-12-01T21:15:37Z</dcterms:modified>
  <cp:revision>21</cp:revision>
  <dc:subject/>
  <dc:title>Mi Vacacion en Madrid, Espana!</dc:title>
</cp:coreProperties>
</file>